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908D-5DE6-4520-8634-1A5405A1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89A6-D648-42FA-B3CD-0AC4892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EBCE-EB1C-4E65-AEA3-A05394EB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CEBA-83A8-4E7D-BB45-F92AFF90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5936-9D1E-432B-809F-0230C9F7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C128-D6AD-4D58-A006-C025895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94B-A43F-4293-AE65-C524E69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8031-119A-4B9F-9DB1-63C216A1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D453-453E-4758-B75C-6AC084C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B577-68C8-4197-BFB5-A11640B0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FE2A-870B-4B9C-87A8-1A22778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5292-02D0-4655-9EBF-E90440FF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7B7-24A8-4B2C-AB8D-CF63A6E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F83-B0FA-4DA6-A3D3-4DF607AB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6054-2275-422D-ABA2-49DE5355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AC7-DD25-4A8A-B86C-57AB12AB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C05-3791-46C1-B42F-4305FDE7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ADDD-1EC4-4BF7-AD57-8BD3E5EC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E136-96F9-4D03-BD56-D7E9A26B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5398-6EFD-4B59-8AB3-253187C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D4CC-6CF5-4DA4-B7AD-CDE01084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16A3-410E-4B8D-AC8E-611F46A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9D72-1DC6-48C8-99F5-0D3720C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E7AD-38F1-430C-9E59-4E3CE73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C95D-7F89-4A5C-A7AD-DFC87A084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78e7"/>
                  </a:gs>
                  <a:gs pos="100000">
                    <a:srgbClr val="ae85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6cd0"/>
                  </a:gs>
                  <a:gs pos="100000">
                    <a:srgbClr val="ae8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ae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5ff"/>
                  </a:gs>
                  <a:gs pos="100000">
                    <a:srgbClr val="9874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e85ff"/>
                </a:gs>
                <a:gs pos="100000">
                  <a:srgbClr val="927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93ff"/>
                </a:gs>
                <a:gs pos="100000">
                  <a:srgbClr val="ae8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BA7-6AF5-41CD-975C-9B08E8B9E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Презентация по предмету </a:t>
            </a:r>
            <a:br>
              <a:rPr sz="3200"/>
            </a:br>
            <a:r>
              <a:rPr b="1" lang="en-US" sz="3200" spc="-1" strike="noStrike">
                <a:solidFill>
                  <a:srgbClr val="070014"/>
                </a:solidFill>
                <a:latin typeface="Book Antiqua"/>
              </a:rPr>
              <a:t>«Экономика предприя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50920" y="20718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70014"/>
                </a:solidFill>
                <a:latin typeface="Book Antiqua"/>
              </a:rPr>
              <a:t>Тема: Оборотный капитал предприятия</a:t>
            </a: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840" y="77760"/>
            <a:ext cx="891216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Размещение оборотного капитала между предприятиями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различных отраслей предопределяет отраслевую структуру оборотного капитала. Так, в сфере производства структура оборотного капитала определяется степенью концентрации, характером и длительностью процесса производства, его материалоемкостью, уровнем технического оснащения и другими факторами. На предприятиях сферы обращения более высока доля запасов товарно-материальных ценност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Размещение оборотного капитала в воспроизводственном процессе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приводит к подразделению его на оборотные производственные фонды и фонды обращения. Оборотные производственные фонды функционируют в процессе производства, а фонды обращения - в процессе обращения, т.е. реализации готовой продукции и приобретения товарно-материальных ценностей. Оптимальное соотношение этих фондов зависит от наибольшей доли оборотных производственных фондов, участвующих в создании стоимости. Величина фондов обращения должна быть достаточной, и не более того, для обеспечения четкого и ритмичного процесса обращения. К оборотным производственным фондам относятся производственные запасы (сырье, материалы, топливо, тара, запасные части), незавершенное производство, расходы будущих периодов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Фонды обращения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- это готовая продукция, товары отгруженные, денежные средства, дебиторская задолженность и средства в прочих расчетах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189000"/>
            <a:ext cx="2808360" cy="100800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борот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989000"/>
            <a:ext cx="2087640" cy="86364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Нормиру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989000"/>
            <a:ext cx="2087280" cy="86364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Ненормиру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484360" y="1197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19700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8760" y="3213000"/>
            <a:ext cx="89852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Нормируемые оборотные средства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те оборотные средства, которые обеспечивают непрерывность производства и способствуют эффективному использованию ресурсов. Это производственные запасы, расходы будущих периодов, незавершенное производство, готовая продукция на складе. Денежные средства, отгруженная продукция, дебиторская задолженность относятся к ненормируемым оборотным средствам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760" y="5229360"/>
            <a:ext cx="89852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900" spc="-1" strike="noStrike">
                <a:solidFill>
                  <a:srgbClr val="070014"/>
                </a:solidFill>
                <a:latin typeface="Book Antiqua"/>
              </a:rPr>
              <a:t>Ненормируемые оборотные средства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являются элементом фондов обращения. Управление этой группой оборотных средств направлено на предотвращение необоснованного их увеличения, что служит важным фактором ускорения оборачиваемости оборотных средств в сфере обращения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8760" y="149400"/>
            <a:ext cx="8985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боротный капитал (оборотные средства) предприятия, участвуя в процессе производства и реализации продукции, совершает непрерывный кругооборот. При этом средства переходят из сферы обращения в сферу производства и обратно, принимая последовательно форму фондов обращения и оборотных производственных фондов. Кругооборот оборотного капитала представляет собой органическое единство трех его ф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8760" y="2309760"/>
            <a:ext cx="898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900" spc="-1" strike="noStrike" u="sng">
                <a:solidFill>
                  <a:srgbClr val="070014"/>
                </a:solidFill>
                <a:uFillTx/>
                <a:latin typeface="Book Antiqua"/>
              </a:rPr>
              <a:t>В первой фазе (Д - Т)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оборотные средства, имеющие первоначально форму денежных средств, превращаются в производственные запасы, т.е. переходят из сферы обращения в сферу производства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3173400"/>
            <a:ext cx="898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1900" spc="-1" strike="noStrike" u="sng">
                <a:solidFill>
                  <a:srgbClr val="070014"/>
                </a:solidFill>
                <a:uFillTx/>
                <a:latin typeface="Book Antiqua"/>
              </a:rPr>
              <a:t>Во второй фазе (Т...П...Т)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оборотные средства участвуют непосредственно в процессе производства и принимают форму незавершенного производства, полуфабрикатов и готовых изделий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8760" y="4037040"/>
            <a:ext cx="8985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1900" spc="-1" strike="noStrike" u="sng">
                <a:solidFill>
                  <a:srgbClr val="070014"/>
                </a:solidFill>
                <a:uFillTx/>
                <a:latin typeface="Book Antiqua"/>
              </a:rPr>
              <a:t>Третья фаза кругооборота оборотных средств (Т - Д)</a:t>
            </a: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 совершается вновь в сфере обращения. В результате реализации готовой продукции оборотные средства принимают снова форму денежных средств. Разница между поступившей денежной выручкой и первоначально затраченными денежными средствами (Д - Д) определяет величину денежных накоплений фирмы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" y="5765760"/>
            <a:ext cx="8985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1900" spc="-1" strike="noStrike">
                <a:solidFill>
                  <a:srgbClr val="070014"/>
                </a:solidFill>
                <a:latin typeface="Book Antiqua"/>
              </a:rPr>
              <a:t>В отличие от основного, оборотный капитал функционирует только в одном производственном цикле и полностью переносит свою стоимость на весь изготовленный продукт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293760"/>
            <a:ext cx="89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ремя полного кругооборота оборотных средств называется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временем (периодом) оборота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оротных сред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Время (длительность) оборота оборотных средств представляет собой один из показателей 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оборачиваемости</a:t>
            </a:r>
            <a:r>
              <a:rPr b="1" lang="ru-RU" sz="2000" spc="-1" strike="noStrike">
                <a:solidFill>
                  <a:srgbClr val="070014"/>
                </a:solidFill>
                <a:latin typeface="Book Antiqua"/>
              </a:rPr>
              <a:t>.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Другим показателем оборачиваемости служит коэффициент оборачивае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Коэффициент оборачиваемости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- это количество оборотов, которое совершают оборотные средства за определенный период; его рассчитывают по форму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где Р      - объем реализованной продукции за рассматриваемый период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С - средняя сумма оборотных средств за тот же пери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03640" y="2819520"/>
            <a:ext cx="180000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" y="149400"/>
            <a:ext cx="891216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Время (длительность) оборота принято называть </a:t>
            </a:r>
            <a:r>
              <a:rPr b="1" i="1" lang="ru-RU" sz="1900" spc="-1" strike="noStrike">
                <a:solidFill>
                  <a:srgbClr val="070014"/>
                </a:solidFill>
                <a:latin typeface="Book Antiqua"/>
              </a:rPr>
              <a:t>оборачиваемостью в днях.</a:t>
            </a:r>
            <a:r>
              <a:rPr b="1" lang="ru-RU" sz="19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Этот показатель определяют по формуле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где </a:t>
            </a:r>
            <a:r>
              <a:rPr b="0" i="1" lang="ru-RU" sz="1900" spc="-1" strike="noStrike">
                <a:solidFill>
                  <a:srgbClr val="070014"/>
                </a:solidFill>
                <a:latin typeface="Book Antiqua"/>
              </a:rPr>
              <a:t>Д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      - число дней в данном периоде (360, 90, 30)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      </a:t>
            </a:r>
            <a:r>
              <a:rPr b="0" i="1" lang="ru-RU" sz="1900" spc="-1" strike="noStrike">
                <a:solidFill>
                  <a:srgbClr val="070014"/>
                </a:solidFill>
                <a:latin typeface="Book Antiqua"/>
              </a:rPr>
              <a:t>Коб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 - коэффициент оборачиваемост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1900" spc="-1" strike="noStrike">
                <a:solidFill>
                  <a:srgbClr val="070014"/>
                </a:solidFill>
                <a:latin typeface="Book Antiqua"/>
              </a:rPr>
              <a:t>На каждой стадии кругооборота оборотных средств можно определять частную оборачиваемость каждого элемента оборотных средств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13525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208728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77760"/>
            <a:ext cx="8985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Частные показатели оборачиваемости можно рассчитать по особому обороту. Особым оборотом для материальных запасов является их расход на производство, для незавершенного производства - поступление товаров на склад, для готовой продукции - отгрузка, для отгруженной продукции - ее реализ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Средние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за период суммы оборотных средств, используемые при расчете показателей оборачиваемости, определяются с использованием формулы средней хронологической. Среднегодовую сумму (среднегодовые остатки оборотных средств) находят как среднеарифметическую четырех квартальных сум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умма оборотных средств, находящаяся в распоряжении предприятия должна быть достаточно большой, чтобы процесс кругооборота не прерывался. В то же время, наличие излишков оборотных средств негативно сказывается на результатах его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53290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480" y="77760"/>
            <a:ext cx="905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Эффективное использование оборотных средств во многом зависит от правильного определения потребности в оборотных средствах. Занижение величины оборотных средств влечет за собой неустойчивость финансового положения, перебои в производственном процессе и снижение объемов производства и прибыли. Завышение размера оборотных средств снижает возможности предприятия производить капитальные затраты для расширения произ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67400" y="2209680"/>
            <a:ext cx="89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отребность в оборотных средствах зависит от множества факторов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28080" y="2570040"/>
            <a:ext cx="51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объемов производства и реализации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" y="293040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характера деятельности предприятия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60" y="3290760"/>
            <a:ext cx="55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длительности производственного цикла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480" y="3651120"/>
            <a:ext cx="56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видов и структуры потребляемого сырья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43560" y="408312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темпов роста объемов производства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4940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Точный расчет потребности предприятия в оборотных средствах следует вести из расчета времени пребывания оборотных средств в сфере производства и сфере 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1840" y="1085760"/>
            <a:ext cx="891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Время пребывания оборотных средств в сфере производства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охватывает период, в течение которого оборотные средства пребывают в состоянии запасов и в виде незавершенного произво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1840" y="2093760"/>
            <a:ext cx="891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Время пребывания оборотных средств в сфере обращения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охватывает период пребывания их в форме остатков нереализованной продукции, в виде отгруженной, но еще не оплаченной продукции, дебиторской задолженности, в виде денежных средств, находящихся в кассе предприятия, на счетах в бан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1840" y="3749760"/>
            <a:ext cx="891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Чем выше скорость оборота (суммарное время пребывания в сфере производства и обращения), тем меньше потребность в оборотных сред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едприятие заинтересовано в сокращении размеров своего оборотного капитала. Но это сокращение должно иметь разумные пределы, так как оборотные средства должны обеспечивать нормальный режим его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1840" y="149400"/>
            <a:ext cx="8912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и определении оптимальной потребности в оборотных средствах рассчитывается сумма денежных средств, которая будет авансирована для создания производственных запасов, заделов незавершенного производства и накопления готовой продукции на складе. Для этого используется </a:t>
            </a:r>
            <a:r>
              <a:rPr b="0" lang="en-US" sz="2000" spc="-1" strike="noStrike" u="sng">
                <a:solidFill>
                  <a:srgbClr val="070014"/>
                </a:solidFill>
                <a:uFillTx/>
                <a:latin typeface="Book Antiqua"/>
              </a:rPr>
              <a:t>три метода: аналитический, коэффициентный и метод прямого сч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ущность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аналитического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,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или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пытно-статистического метода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состоит в том, что при анализе имеющихся товарно-материальных ценностей корректируются их фактические запасы и исключаются излишние и ненужные ц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и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коэффициентном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методе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в норматив предшествующего периода вносятся поправки на планируемое изменение объемов производства и на ускорение оборачивае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Аналитический и коэффициентный методы могут применяться на тех предприятиях, которые функционируют больше года, сформировали производственную программу и организовали производственный процесс, имеют статистические данные за прошлые годы и не располагают достаточным количеством квалифицированных специалистов для более детальной работы в области планирования оборот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840" y="365040"/>
            <a:ext cx="8912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ru-RU" sz="2000" spc="-1" strike="noStrike">
                <a:solidFill>
                  <a:srgbClr val="070014"/>
                </a:solidFill>
                <a:latin typeface="Book Antiqua"/>
              </a:rPr>
              <a:t>Метод прямого счета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предусматривает расчет запасов по каждому элементу оборотных средств. Этот метод используется при организации нового предприятия и периодическом уточнении потребности в оборотных средствах действующего пред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щие нормативы собственных оборотных средств определяются в размере их минимальной потребности для образования запасов сырья, материалов, топлива, незавершенного производства, расходов будущих периодов, готовых издел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Общий норматив оборотных средств состоит из суммы частных норматив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где   Нпз - норматив производственных запа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Ннп - норматив незавершенного производ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Нгп - норматив готовой продук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        </a:t>
            </a:r>
            <a:r>
              <a:rPr b="0" lang="ru-RU" sz="2000" spc="-1" strike="noStrike">
                <a:solidFill>
                  <a:srgbClr val="070014"/>
                </a:solidFill>
                <a:latin typeface="Book Antiqua"/>
              </a:rPr>
              <a:t>Нбр - норматив будущих пери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0338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760" y="149400"/>
            <a:ext cx="8985240" cy="68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Оборотный капитал: состав и структура, источники формирования. Влияние управления оборотным капиталом на конечные результаты работы пред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 u="sng">
                <a:solidFill>
                  <a:srgbClr val="070014"/>
                </a:solidFill>
                <a:uFillTx/>
                <a:latin typeface="Book Antiqua"/>
              </a:rPr>
              <a:t>Оборотный капитал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это капитал, инвестируемый фирмой, компанией в текущую деятельность на период каждого операционного цикла. Иными словами, это средства фирмы, вложенные в текущие активы (оборотные средства). Оборотный капитал, как и основной капитал, выражает определенные производственные отношения, складывающиеся с развитием предприниматель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боротный капитал непосредственно участвует в создании новой стоимости, функционируя в процессе кругооборота всего капитала. При этом соотношение основного и оборотного капитала влияет на величину получаемой прибыли. Оборотный капитал обращается быстрее, чем основной капитал. Поэтому с увеличением доли оборотного капитала в общей сумме авансированного капитала время оборота всего капитала сокращается, а, следовательно, увеличивается возможность роста новой стоимости, т.е. прибы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6200" y="509760"/>
            <a:ext cx="876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Оборотный капитал хозяйствующих субъектов, участвуя в кругообороте средств рыночной экономики, представляет собой органически единый комплек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70014"/>
                </a:solidFill>
                <a:latin typeface="Book Antiqua"/>
              </a:rPr>
              <a:t>Оборотный капитал - это денежные средства, авансированные в оборотные производственные фонды и фонды обращения, обеспечивающие как процесс производства, так и процесс обра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" y="293760"/>
            <a:ext cx="8912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 u="sng">
                <a:solidFill>
                  <a:srgbClr val="070014"/>
                </a:solidFill>
                <a:uFillTx/>
                <a:latin typeface="Book Antiqua"/>
              </a:rPr>
              <a:t>Существует понятие чистого оборотного капитала.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Его величина определяется как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разница между текущими активами и текущими обязательствами, текущими пассивами.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В нормальных условиях функционирования хозяйствующих субъектов величина текущих активов выше текущих обязательств, т.е. сумма оборотных средств превышает кредиторскую задолж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Чистый оборотный капитал в традиционной терминологии представляет собой не что иное, как собственные оборотные сре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Особенности управления оборотным капиталом определяются структурной принадлежностью хозяйствующих субъектов. Если у торговых организаций высок удельный вес товаров, у промышленных предприятий - сырья и материалов, то у финансовых корпораций преобладают денежные средства и их эквивал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Таким образом, эффективность управления оборотным капиталом определяется рядом факторов: объемом и составом текущих активов, их ликвидностью, соотношением собственных и заемных источников покрытия текущих активов, величиной чистого оборотного капитала, соотношением постоянного и переменного капитала и другими взаимосвязанными факто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8760" y="652320"/>
            <a:ext cx="89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70014"/>
                </a:solidFill>
                <a:latin typeface="Book Antiqua"/>
              </a:rPr>
              <a:t>Управление оборотным капиталом тесно связано с его составом и размещением. В различных хозяйствующих субъектах состав и структура оборотного капитала неодинаковы, так как зависят от формы собственности, специфики организации производственного процесса, взаимоотношений с поставщиками и покупателями, структуры затрат на производство, финансового состояния и других факторов (рисунок 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553" descr="http://tvoydohod.ru/fin_img/fin_15_clip_image002.jpg"/>
          <p:cNvPicPr/>
          <p:nvPr/>
        </p:nvPicPr>
        <p:blipFill>
          <a:blip r:embed="rId1"/>
          <a:stretch/>
        </p:blipFill>
        <p:spPr>
          <a:xfrm>
            <a:off x="1332000" y="0"/>
            <a:ext cx="5832360" cy="595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20" y="612468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          </a:t>
            </a: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Рисунок 1. Типовой состав и размещение оборотного капит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840" y="220680"/>
            <a:ext cx="891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Состояние, состав и структура производственных запасов, незавершенного производства и готовой продукции являются важным индикатором коммерческой деятельности предприятия. Определение структуры и выявление тенденции изменения элементов оборотных средств дают возможность прогнозировать параметры развития предприниматель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480" y="2381400"/>
            <a:ext cx="90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Под составом оборотных средств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следует понимать входящие в их состав элементы (рис.1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оизводственные запасы (сырье и основные материалы, покупные полуфабрикаты, вспомогательные материалы, топливо, запасные част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незавершенное производ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расходы будущих пери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готовая продукция на склад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одукция отгруженна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дебиторская задолжен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•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денежные средства в кассе предприятия и на счетах в ба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480" y="77760"/>
            <a:ext cx="90565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Сырье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является продукцией добывающих отрас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Материалы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представляют собой продукцию, уже прошедшую определенную обработку. Материалы подразделяются на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сновные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и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вспомогатель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Основные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это материалы, которые непосредственно входят в состав изготовляемого продукта (металл, тка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Вспомогательные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это материалы, необходимые для обеспечения нормального производственного процесса. Сами они в состав готового продукта не входят (смазка, реаген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Полуфабрикаты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продукты, законченные переработкой на одном переделе и передаваемые для обработки на другой передел. Полуфабрикаты могут быть 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собственные и покупные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.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Если полуфабрикаты не производятся на собственном предприятии, а покупаются у другого предприятия, они относятся к покупным и входят в состав производственных зап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Незавершенное производство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-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это продукция (работы), не прошедшая всех стадий (фаз, переделов), предусмотренных технологическим процессом, а также изделия неукомплектованные, не прошедшие испытания и техническую прием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Расходы будущих периодов</a:t>
            </a:r>
            <a:r>
              <a:rPr b="1" lang="en-US" sz="2000" spc="-1" strike="noStrike">
                <a:solidFill>
                  <a:srgbClr val="070014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- это расходы данного периода, подлежащие погашению за счет себестоимости последующих пери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3120" y="436680"/>
            <a:ext cx="8840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Готовая продукция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представляет собой полностью законченные готовые изделия или полуфабрикаты, поступившие на склад пред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Дебиторская задолженность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деньги, которые физические или юридические лица задолжали за поставку товаров, услуг или сыр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70014"/>
                </a:solidFill>
                <a:latin typeface="Book Antiqua"/>
              </a:rPr>
              <a:t>Денежные средства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 - это денежные средства, находящиеся в кассе предприятия, на расчетных счетах банков и в расчет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На основе элементного состава оборотных средств можно рассчитать их </a:t>
            </a:r>
            <a:r>
              <a:rPr b="0" i="1" lang="en-US" sz="2000" spc="-1" strike="noStrike">
                <a:solidFill>
                  <a:srgbClr val="070014"/>
                </a:solidFill>
                <a:latin typeface="Book Antiqua"/>
              </a:rPr>
              <a:t>структуру</a:t>
            </a:r>
            <a:r>
              <a:rPr b="0" lang="en-US" sz="2000" spc="-1" strike="noStrike">
                <a:solidFill>
                  <a:srgbClr val="070014"/>
                </a:solidFill>
                <a:latin typeface="Book Antiqua"/>
              </a:rPr>
              <a:t>, которая представляет собой удельный вес стоимости отдельных элементов оборотных средств в общей их стои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8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"/>
          <p:cNvSpPr/>
          <p:nvPr/>
        </p:nvSpPr>
        <p:spPr>
          <a:xfrm>
            <a:off x="0" y="214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250920" y="20718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260280"/>
            <a:ext cx="2808000" cy="100800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0014"/>
                </a:solidFill>
                <a:latin typeface="Book Antiqua"/>
              </a:rPr>
              <a:t>Источники формировани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0014"/>
                </a:solidFill>
                <a:latin typeface="Book Antiqua"/>
              </a:rPr>
              <a:t>оборотного капитал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276640"/>
            <a:ext cx="2087640" cy="86328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Соб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2276640"/>
            <a:ext cx="2087640" cy="863280"/>
          </a:xfrm>
          <a:prstGeom prst="flowChartAlternateProcess">
            <a:avLst/>
          </a:prstGeom>
          <a:solidFill>
            <a:srgbClr val="c0c0c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Зае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Garamond"/>
              </a:rPr>
              <a:t>(привлече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84000" y="1268280"/>
            <a:ext cx="1079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1268280"/>
            <a:ext cx="1440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0" y="3533760"/>
            <a:ext cx="90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800" spc="-1" strike="noStrike" u="sng">
                <a:solidFill>
                  <a:srgbClr val="070014"/>
                </a:solidFill>
                <a:uFillTx/>
                <a:latin typeface="Book Antiqua"/>
              </a:rPr>
              <a:t>Собственный оборотный капитал</a:t>
            </a: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 предприятий с развитием предпринимательской деятельности и акционирования играет определяющую роль, так как обеспечивает финансовую устойчивость и оперативную самостоятельность хозяйствующего субъекта. Собственные оборотные средства приватизированных предприятий находятся в полном их распоряжении. Предприятия имеют право их продавать, передавать другим хозяйствующим субъектам, гражданам, сдавать в аренду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5478480"/>
            <a:ext cx="905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	</a:t>
            </a:r>
            <a:r>
              <a:rPr b="1" i="1" lang="en-US" sz="1800" spc="-1" strike="noStrike" u="sng">
                <a:solidFill>
                  <a:srgbClr val="070014"/>
                </a:solidFill>
                <a:uFillTx/>
                <a:latin typeface="Book Antiqua"/>
              </a:rPr>
              <a:t>Заемный капитал</a:t>
            </a:r>
            <a:r>
              <a:rPr b="0" lang="en-US" sz="1800" spc="-1" strike="noStrike">
                <a:solidFill>
                  <a:srgbClr val="070014"/>
                </a:solidFill>
                <a:latin typeface="Book Antiqua"/>
              </a:rPr>
              <a:t>, привлекаемый в виде банковских кредитов других форм, покрывает дополнительную потребность предприятия в средствах. При этом главным критерием условий кредитования банком служит надежность финансового состояния предприятия и оценка его финансовой устойчив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6:11:20Z</dcterms:created>
  <dc:creator>User</dc:creator>
  <dc:description/>
  <dc:language>en-US</dc:language>
  <cp:lastModifiedBy>Admin</cp:lastModifiedBy>
  <dcterms:modified xsi:type="dcterms:W3CDTF">2012-01-27T11:56:00Z</dcterms:modified>
  <cp:revision>7</cp:revision>
  <dc:subject/>
  <dc:title>Слайд 1</dc:title>
</cp:coreProperties>
</file>